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D06-0F17-4B6E-9256-653DDC1C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32C-E438-4855-9E9D-9A701D09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644-3BFF-4032-9DB4-22B574B7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3BB-6632-4316-9660-C7DA444F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51B-75F4-413E-949C-57941070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F58-9E80-4CDA-B331-925F2F87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E33-16B1-4DDF-AF72-8F6DC25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30C-F355-4B67-8458-0B9E3F8D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90B-0535-42D3-AF2F-E0616FA5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B26-BDD5-4D24-AC6E-1968156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B30-C24A-421D-8D7E-3A9B4E1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D64-C4F0-4C79-8A62-BBC06F5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660B-5525-4C41-A97F-B0202E550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143080" cy="628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3789360"/>
            <a:ext cx="1428840" cy="4190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692360" y="4292640"/>
            <a:ext cx="1433160" cy="417600"/>
            <a:chOff x="1692360" y="4292640"/>
            <a:chExt cx="1433160" cy="417600"/>
          </a:xfrm>
        </p:grpSpPr>
        <p:sp>
          <p:nvSpPr>
            <p:cNvPr id="44" name=""/>
            <p:cNvSpPr/>
            <p:nvPr/>
          </p:nvSpPr>
          <p:spPr>
            <a:xfrm>
              <a:off x="1697040" y="4292640"/>
              <a:ext cx="142848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92360" y="4292640"/>
              <a:ext cx="380880" cy="417600"/>
            </a:xfrm>
            <a:prstGeom prst="rect">
              <a:avLst/>
            </a:prstGeom>
            <a:solidFill>
              <a:srgbClr val="96c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619280" y="3068640"/>
            <a:ext cx="2147400" cy="630000"/>
            <a:chOff x="1619280" y="3068640"/>
            <a:chExt cx="2147400" cy="630000"/>
          </a:xfrm>
        </p:grpSpPr>
        <p:sp>
          <p:nvSpPr>
            <p:cNvPr id="47" name=""/>
            <p:cNvSpPr/>
            <p:nvPr/>
          </p:nvSpPr>
          <p:spPr>
            <a:xfrm>
              <a:off x="1622160" y="3068640"/>
              <a:ext cx="2144520" cy="63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9280" y="3068640"/>
              <a:ext cx="561600" cy="630000"/>
            </a:xfrm>
            <a:prstGeom prst="rect">
              <a:avLst/>
            </a:prstGeom>
            <a:solidFill>
              <a:srgbClr val="96c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638360" y="3094200"/>
            <a:ext cx="1630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green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292640"/>
            <a:ext cx="158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green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8000" y="3573360"/>
            <a:ext cx="2147400" cy="630000"/>
            <a:chOff x="108000" y="3573360"/>
            <a:chExt cx="2147400" cy="630000"/>
          </a:xfrm>
        </p:grpSpPr>
        <p:sp>
          <p:nvSpPr>
            <p:cNvPr id="53" name=""/>
            <p:cNvSpPr/>
            <p:nvPr/>
          </p:nvSpPr>
          <p:spPr>
            <a:xfrm>
              <a:off x="110880" y="3573360"/>
              <a:ext cx="214452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8000" y="3573360"/>
              <a:ext cx="561600" cy="630000"/>
            </a:xfrm>
            <a:prstGeom prst="rect">
              <a:avLst/>
            </a:prstGeom>
            <a:solidFill>
              <a:srgbClr val="96c1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24000" y="2492280"/>
            <a:ext cx="1433160" cy="417600"/>
            <a:chOff x="324000" y="2492280"/>
            <a:chExt cx="1433160" cy="417600"/>
          </a:xfrm>
        </p:grpSpPr>
        <p:sp>
          <p:nvSpPr>
            <p:cNvPr id="56" name=""/>
            <p:cNvSpPr/>
            <p:nvPr/>
          </p:nvSpPr>
          <p:spPr>
            <a:xfrm>
              <a:off x="328680" y="2492280"/>
              <a:ext cx="142848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4000" y="2492280"/>
              <a:ext cx="380880" cy="417600"/>
            </a:xfrm>
            <a:prstGeom prst="rect">
              <a:avLst/>
            </a:prstGeom>
            <a:solidFill>
              <a:srgbClr val="96c1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03320" y="355428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formatica Um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3080" y="2492280"/>
            <a:ext cx="1420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formatica Umani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124000" y="2563920"/>
            <a:ext cx="1433160" cy="417240"/>
            <a:chOff x="2124000" y="2563920"/>
            <a:chExt cx="1433160" cy="417240"/>
          </a:xfrm>
        </p:grpSpPr>
        <p:grpSp>
          <p:nvGrpSpPr>
            <p:cNvPr id="61" name=""/>
            <p:cNvGrpSpPr/>
            <p:nvPr/>
          </p:nvGrpSpPr>
          <p:grpSpPr>
            <a:xfrm>
              <a:off x="2124000" y="2563920"/>
              <a:ext cx="1433160" cy="417240"/>
              <a:chOff x="2124000" y="2563920"/>
              <a:chExt cx="1433160" cy="417240"/>
            </a:xfrm>
          </p:grpSpPr>
          <p:sp>
            <p:nvSpPr>
              <p:cNvPr id="62" name=""/>
              <p:cNvSpPr/>
              <p:nvPr/>
            </p:nvSpPr>
            <p:spPr>
              <a:xfrm>
                <a:off x="2128680" y="2563920"/>
                <a:ext cx="142848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24000" y="2563920"/>
                <a:ext cx="380880" cy="417240"/>
              </a:xfrm>
              <a:prstGeom prst="rect">
                <a:avLst/>
              </a:prstGeom>
              <a:solidFill>
                <a:srgbClr val="96c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125800" y="2581200"/>
              <a:ext cx="1414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Informatica Umanis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692360" y="4437000"/>
            <a:ext cx="2152080" cy="649080"/>
            <a:chOff x="1692360" y="4437000"/>
            <a:chExt cx="2152080" cy="649080"/>
          </a:xfrm>
        </p:grpSpPr>
        <p:grpSp>
          <p:nvGrpSpPr>
            <p:cNvPr id="66" name=""/>
            <p:cNvGrpSpPr/>
            <p:nvPr/>
          </p:nvGrpSpPr>
          <p:grpSpPr>
            <a:xfrm>
              <a:off x="1697040" y="4456080"/>
              <a:ext cx="2147400" cy="630000"/>
              <a:chOff x="1697040" y="4456080"/>
              <a:chExt cx="2147400" cy="630000"/>
            </a:xfrm>
          </p:grpSpPr>
          <p:sp>
            <p:nvSpPr>
              <p:cNvPr id="67" name=""/>
              <p:cNvSpPr/>
              <p:nvPr/>
            </p:nvSpPr>
            <p:spPr>
              <a:xfrm>
                <a:off x="1699920" y="4456080"/>
                <a:ext cx="2144520" cy="63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697040" y="4456080"/>
                <a:ext cx="561600" cy="630000"/>
              </a:xfrm>
              <a:prstGeom prst="rect">
                <a:avLst/>
              </a:prstGeom>
              <a:solidFill>
                <a:srgbClr val="96c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692360" y="4437000"/>
              <a:ext cx="163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Informatica Umani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3279600" cy="13381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5148360" y="2421000"/>
            <a:ext cx="1800000" cy="1338120"/>
            <a:chOff x="5148360" y="2421000"/>
            <a:chExt cx="1800000" cy="1338120"/>
          </a:xfrm>
        </p:grpSpPr>
        <p:sp>
          <p:nvSpPr>
            <p:cNvPr id="73" name=""/>
            <p:cNvSpPr/>
            <p:nvPr/>
          </p:nvSpPr>
          <p:spPr>
            <a:xfrm>
              <a:off x="5148360" y="2421000"/>
              <a:ext cx="1800000" cy="1338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48360" y="2492280"/>
              <a:ext cx="180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so di Biblioteche Digit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828720" cy="16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828720" cy="161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05000" y="2341440"/>
            <a:ext cx="828720" cy="1620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349800" y="3537000"/>
            <a:ext cx="826920" cy="162000"/>
            <a:chOff x="3349800" y="3537000"/>
            <a:chExt cx="826920" cy="162000"/>
          </a:xfrm>
        </p:grpSpPr>
        <p:sp>
          <p:nvSpPr>
            <p:cNvPr id="80" name=""/>
            <p:cNvSpPr/>
            <p:nvPr/>
          </p:nvSpPr>
          <p:spPr>
            <a:xfrm>
              <a:off x="3349800" y="3537000"/>
              <a:ext cx="826920" cy="162000"/>
            </a:xfrm>
            <a:prstGeom prst="rect">
              <a:avLst/>
            </a:prstGeom>
            <a:gradFill rotWithShape="0">
              <a:gsLst>
                <a:gs pos="0">
                  <a:srgbClr val="ffe0ac">
                    <a:alpha val="33333"/>
                  </a:srgbClr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84720" y="3556080"/>
              <a:ext cx="739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titoli  a-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338640" y="3068640"/>
            <a:ext cx="826920" cy="162000"/>
            <a:chOff x="3338640" y="3068640"/>
            <a:chExt cx="826920" cy="162000"/>
          </a:xfrm>
        </p:grpSpPr>
        <p:sp>
          <p:nvSpPr>
            <p:cNvPr id="83" name=""/>
            <p:cNvSpPr/>
            <p:nvPr/>
          </p:nvSpPr>
          <p:spPr>
            <a:xfrm>
              <a:off x="3338640" y="3068640"/>
              <a:ext cx="826920" cy="16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96c1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73560" y="3087720"/>
              <a:ext cx="7398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titoli  a-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301920" y="2752560"/>
            <a:ext cx="827280" cy="162000"/>
            <a:chOff x="3301920" y="2752560"/>
            <a:chExt cx="827280" cy="162000"/>
          </a:xfrm>
        </p:grpSpPr>
        <p:sp>
          <p:nvSpPr>
            <p:cNvPr id="86" name=""/>
            <p:cNvSpPr/>
            <p:nvPr/>
          </p:nvSpPr>
          <p:spPr>
            <a:xfrm>
              <a:off x="3301920" y="2752560"/>
              <a:ext cx="827280" cy="16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96c19b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36840" y="2771640"/>
              <a:ext cx="7398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titoli  a-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449440" y="3429000"/>
            <a:ext cx="827280" cy="162000"/>
          </a:xfrm>
          <a:prstGeom prst="rect">
            <a:avLst/>
          </a:prstGeom>
          <a:gradFill rotWithShape="0">
            <a:gsLst>
              <a:gs pos="0">
                <a:srgbClr val="ffe0ac">
                  <a:alpha val="33333"/>
                </a:srgbClr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560" y="2452680"/>
            <a:ext cx="190440" cy="162000"/>
          </a:xfrm>
          <a:prstGeom prst="rect">
            <a:avLst/>
          </a:prstGeom>
          <a:gradFill rotWithShape="0">
            <a:gsLst>
              <a:gs pos="0">
                <a:srgbClr val="ffe0ac">
                  <a:alpha val="33333"/>
                </a:srgbClr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19920" y="1535040"/>
            <a:ext cx="1047600" cy="1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672080" y="1535040"/>
            <a:ext cx="1047600" cy="16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3448080" y="1535040"/>
            <a:ext cx="1047600" cy="162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448160" y="3517920"/>
            <a:ext cx="827280" cy="162000"/>
            <a:chOff x="4448160" y="3517920"/>
            <a:chExt cx="827280" cy="162000"/>
          </a:xfrm>
        </p:grpSpPr>
        <p:sp>
          <p:nvSpPr>
            <p:cNvPr id="94" name=""/>
            <p:cNvSpPr/>
            <p:nvPr/>
          </p:nvSpPr>
          <p:spPr>
            <a:xfrm>
              <a:off x="4448160" y="3517920"/>
              <a:ext cx="827280" cy="16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83080" y="3537000"/>
              <a:ext cx="7398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titoli  a-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51480" y="3530520"/>
            <a:ext cx="190440" cy="162000"/>
          </a:xfrm>
          <a:prstGeom prst="rect">
            <a:avLst/>
          </a:prstGeom>
          <a:gradFill rotWithShape="0">
            <a:gsLst>
              <a:gs pos="0">
                <a:srgbClr val="ffffff">
                  <a:alpha val="33333"/>
                </a:srgbClr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19440" y="3157560"/>
            <a:ext cx="1905120" cy="54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48200" y="620640"/>
            <a:ext cx="1047600" cy="16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700360" y="620640"/>
            <a:ext cx="1047600" cy="16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76360" y="620640"/>
            <a:ext cx="1047600" cy="16200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2268360" y="1989000"/>
            <a:ext cx="1903320" cy="542880"/>
            <a:chOff x="2268360" y="1989000"/>
            <a:chExt cx="1903320" cy="542880"/>
          </a:xfrm>
        </p:grpSpPr>
        <p:sp>
          <p:nvSpPr>
            <p:cNvPr id="102" name=""/>
            <p:cNvSpPr/>
            <p:nvPr/>
          </p:nvSpPr>
          <p:spPr>
            <a:xfrm>
              <a:off x="2268360" y="1989000"/>
              <a:ext cx="1903320" cy="5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84320" y="1989000"/>
              <a:ext cx="387360" cy="542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622680" y="3844800"/>
            <a:ext cx="1903320" cy="542880"/>
            <a:chOff x="3622680" y="3844800"/>
            <a:chExt cx="1903320" cy="542880"/>
          </a:xfrm>
        </p:grpSpPr>
        <p:grpSp>
          <p:nvGrpSpPr>
            <p:cNvPr id="105" name=""/>
            <p:cNvGrpSpPr/>
            <p:nvPr/>
          </p:nvGrpSpPr>
          <p:grpSpPr>
            <a:xfrm>
              <a:off x="3622680" y="3844800"/>
              <a:ext cx="1903320" cy="542880"/>
              <a:chOff x="3622680" y="3844800"/>
              <a:chExt cx="1903320" cy="542880"/>
            </a:xfrm>
          </p:grpSpPr>
          <p:sp>
            <p:nvSpPr>
              <p:cNvPr id="106" name=""/>
              <p:cNvSpPr/>
              <p:nvPr/>
            </p:nvSpPr>
            <p:spPr>
              <a:xfrm>
                <a:off x="3622680" y="3844800"/>
                <a:ext cx="1903320" cy="54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38640" y="3844800"/>
                <a:ext cx="387360" cy="542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572000" y="38955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Lucida Sans"/>
                </a:rPr>
                <a:t>abo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5:36:19Z</dcterms:created>
  <dc:creator>Biblioteche Digitali</dc:creator>
  <dc:description/>
  <dc:language>en-US</dc:language>
  <cp:lastModifiedBy>Pasquale Savino</cp:lastModifiedBy>
  <dcterms:modified xsi:type="dcterms:W3CDTF">2004-04-28T08:48:35Z</dcterms:modified>
  <cp:revision>12</cp:revision>
  <dc:subject/>
  <dc:title>Diapositiva 1</dc:title>
</cp:coreProperties>
</file>